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C790-A079-47BD-AD00-1FD0ABD2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4482-840E-4949-BE3D-CD1BBB3B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86BB-B625-4BA9-8712-8FCDC41B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FA06-550E-4A93-AEB7-D6C23E60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9989-AA02-4C8D-9C8B-320760C8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26AF-ED50-4E28-834B-2C31430D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DF53-F7E1-47D7-A738-FA83A7A9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730A-3250-4122-AD80-FE2F2D55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14FA-9C97-49C3-881A-B29F0EF5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5F26-405D-4A20-88DB-B142EAFE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8B9E-1A52-46E5-993D-14B175F8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3A3D-45D2-43FC-9D6B-B2F0AD22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DDAE-595A-4316-B05A-CDD3B431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C58C-7A8E-49E9-87B7-5A4448DF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63E6-A81B-4E24-BC05-BE905F0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5683-2348-49B1-8BAE-1038F154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D6C5-30CC-4F97-A9A8-BEAE123A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4C91-BF29-4A25-8425-104F2758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EB04-7142-4D3C-8D87-012B451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0CFF-611F-4BF6-8680-2C154F6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63F67-DE0A-45A5-AB31-68E1A911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3A32A-8854-461D-83F9-564F597F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8D3F-3EB5-46A0-9EE7-960B50BA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960F-2AC0-45AC-AEF8-DE5445A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BCB-177C-4320-83F8-931D09C6D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1828800"/>
            <a:ext cx="8229600" cy="0"/>
          </a:xfrm>
          <a:prstGeom prst="line">
            <a:avLst/>
          </a:prstGeom>
          <a:ln cap="sq"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8C6B-EED2-49BD-B878-3E66EEE2E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ong of Solomon</a:t>
            </a:r>
            <a:br>
              <a:rPr sz="5000"/>
            </a:br>
            <a:r>
              <a:rPr b="0" i="1" lang="en-US" sz="5000" spc="-1" strike="noStrike">
                <a:solidFill>
                  <a:srgbClr val="ffffff"/>
                </a:solidFill>
                <a:latin typeface="Monotype Corsiva"/>
              </a:rPr>
              <a:t>“A Love Song”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2120" y="4266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arter 5, Lesson 2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ive Us A King – The United Kingdom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ges 213-22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rote 1,005 songs (1 Kings 4: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reason why the Holy Spirit inspired someone to wri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as a reason why it is included in B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ssi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be Solomon and his new bride as they seek to resolve their differences and come to a loving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be Solomon trying to win the love of a maiden who loves an humble shephe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dron suggests the second of these as our basis for interpreting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6:36:28Z</dcterms:created>
  <dc:creator>Frank D Vines</dc:creator>
  <dc:description/>
  <dc:language>en-US</dc:language>
  <cp:lastModifiedBy>Frank D Vines</cp:lastModifiedBy>
  <dcterms:modified xsi:type="dcterms:W3CDTF">2005-06-29T17:06:12Z</dcterms:modified>
  <cp:revision>2</cp:revision>
  <dc:subject/>
  <dc:title>Song of Solomon “A Love Song”</dc:title>
</cp:coreProperties>
</file>